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8B61-2CBC-4620-A159-D1154A9F0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2992-8889-43F4-9D66-C0A4BDCCB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0C5A-F894-48E2-BE64-597EAB58B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3A2A-AF87-4552-81AC-857AD8AAF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5703-F88D-4AEE-B37A-A8EAA50BB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78C5-554A-4777-9122-891779C41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9EC7-6D1D-429C-A38F-18C72CD75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7335-7C8B-447B-A1AF-46A427110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35AA-96C7-4CDD-A845-A41D50729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2E8B-8800-4F9F-8FA4-190944D1A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F172-95BC-4DE3-AEE7-B473EE24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D66E-9D07-4892-BF37-3AAB09B7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3ECFD-5101-471E-8ADA-8F5FA8BD78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13240" y="2852640"/>
            <a:ext cx="765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 Black"/>
              </a:rPr>
              <a:t>Políticas Públicas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2448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50920" y="692280"/>
            <a:ext cx="8569080" cy="55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RTIFIC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o término de cada curso, os participantes receberão seu Certificado após uma  avaliação de aproveitamento e de participação mínima em 85% das aulas teóricas /  prátic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ABORAÇÃO DOS INDICADORES DO PROGRA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76360" cy="13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50920" y="430200"/>
            <a:ext cx="660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-211680" y="-2442960"/>
            <a:ext cx="9567000" cy="27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8520" rIns="701280" tIns="1482120" bIns="90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12 - INVESTIMENTOS / CURSO / INDICADORES / DIVULGAÇÃO DE RESULTADOS: PROPOSTAS DE PROJE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50920" y="907920"/>
          <a:ext cx="8713800" cy="6021360"/>
        </p:xfrm>
        <a:graphic>
          <a:graphicData uri="http://schemas.openxmlformats.org/drawingml/2006/table">
            <a:tbl>
              <a:tblPr/>
              <a:tblGrid>
                <a:gridCol w="1008000"/>
                <a:gridCol w="2820960"/>
                <a:gridCol w="2871720"/>
                <a:gridCol w="2013120"/>
              </a:tblGrid>
              <a:tr h="398880">
                <a:tc rowSpan="10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CURS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Me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tap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OR R$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DENTIFICAÇÃO PERFIL CANDIDATO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A - 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laboração da ficha de cadastrament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.09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ríodo inscrição mobilização / mobilização soc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8.12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abulação dos d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.99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LEÇÃO META - B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laboração dos pré-requisi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.59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leções participantes e execução das inscriçõ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3.92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ALIZAÇÃO DE CURS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A - 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00360"/>
                          <a:tab algn="r" pos="54007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reinamento dos facilitad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.79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usto por cursos de 40 horas c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.38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usto por  curso de 60 horas c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.4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valiação por curs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8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-466560" y="884304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79640" y="260280"/>
            <a:ext cx="475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PROPOSTAS DE PROJE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216000" y="189000"/>
          <a:ext cx="8713800" cy="6997680"/>
        </p:xfrm>
        <a:graphic>
          <a:graphicData uri="http://schemas.openxmlformats.org/drawingml/2006/table">
            <a:tbl>
              <a:tblPr/>
              <a:tblGrid>
                <a:gridCol w="1908000"/>
                <a:gridCol w="2376720"/>
                <a:gridCol w="2585880"/>
                <a:gridCol w="1843200"/>
              </a:tblGrid>
              <a:tr h="146556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ELABORAÇÃO DOS INDICADO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BULAÇÃO DOS QUESTIONÁRIOS AVALIATIVOS POR CU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 –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serção e tabulação dos dados por curs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8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ESTIONARIOS E ENTREVIS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S SETORES CADE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 -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aboração dos  questionários e entrevistas nos setores da cade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03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licação do questionário / entrevistas = 3.6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.612,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bulação dos d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.1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0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ALISE DOS RESULT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álise Elaboração do diagnóst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.15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DIVULGAÇÃO DOS RESULTA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vulgaçã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D e Relatório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79280" y="549360"/>
            <a:ext cx="8569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ROJET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- LEVANTAMENTO DE INFORMAÇÕES PARA QUALIFICAÇÃO DE  MÃO DE O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- CAPACITAÇÕES E ASSISTENCIA TÉCNICA PARA 4.000 PROPRIEDADES RUR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- PRODUÇÃO, ADMINISTRAÇÃO E LEGISLAÇ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9236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81560" y="332640"/>
            <a:ext cx="42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TOTAL DE RECURSOS DOS PROJETOS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539640" y="836640"/>
          <a:ext cx="8069400" cy="4562280"/>
        </p:xfrm>
        <a:graphic>
          <a:graphicData uri="http://schemas.openxmlformats.org/drawingml/2006/table">
            <a:tbl>
              <a:tblPr/>
              <a:tblGrid>
                <a:gridCol w="2808360"/>
                <a:gridCol w="3529080"/>
                <a:gridCol w="17319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OJE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BJETIV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– LEVANTAMENTO DE INFORMAÇÕES PARA QUALIFICAÇÃO DE MAO-DE-OB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evantar informações nos diversos segmentos que compõem a Cadeia Madeira para detectar  que profissionais são necessário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1.82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250920" y="1125360"/>
          <a:ext cx="8858160" cy="4357800"/>
        </p:xfrm>
        <a:graphic>
          <a:graphicData uri="http://schemas.openxmlformats.org/drawingml/2006/table">
            <a:tbl>
              <a:tblPr/>
              <a:tblGrid>
                <a:gridCol w="2539800"/>
                <a:gridCol w="4299120"/>
                <a:gridCol w="2019240"/>
              </a:tblGrid>
              <a:tr h="466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PACITAÇÃO E ASSISTENCIA TÉCNICA PARA 4.000 PROPRIEDADES RURAI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pacitar técnicos para serem multiplicadores na área de silvicultura, florestas, sistemas agrosilvipastoris e adequação sócio-ambiental e econômica das propriedades rurai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pacitação de agricultores na produção de florestas, sistemas silvipastoris e adequação sócio-ambiental e econômica da propried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ssistência técnica intensiva e especializada para produtores (as) de florestas e sistemas silvipastor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.663.34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981000" y="260280"/>
            <a:ext cx="69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DE RECURSOS DOS PROJE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538200" y="1341360"/>
          <a:ext cx="8605800" cy="3440160"/>
        </p:xfrm>
        <a:graphic>
          <a:graphicData uri="http://schemas.openxmlformats.org/drawingml/2006/table">
            <a:tbl>
              <a:tblPr/>
              <a:tblGrid>
                <a:gridCol w="2233440"/>
                <a:gridCol w="3961080"/>
                <a:gridCol w="2411280"/>
              </a:tblGrid>
              <a:tr h="261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 -  PRODUÇÃO, ADMINISTRAÇÃO E LEGISLAÇÃO FLORESTA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Qualificar a população de diversos segmentos produtivos que atuam na cadeia produtiva de base floresta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70.00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OTAL GE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.005.16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1196640" y="692280"/>
            <a:ext cx="69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DE RECURSOS DOS PROJE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333360"/>
            <a:ext cx="8496360" cy="60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olíticas Públicas</a:t>
            </a:r>
            <a:r>
              <a:rPr b="1" lang="en-US" sz="2400" spc="-1" strike="noStrike">
                <a:solidFill>
                  <a:srgbClr val="99cc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entralização da gestão ambiental para a silvicul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ama de assistência técnica e capacitação d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ores em cada segmento da cadeia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entivo para sistemas agrosilvipasto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equação das políticas públicas para o setor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44144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79280" y="1052640"/>
            <a:ext cx="878544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olítica e / ou programa estadual de incentivo a  recuperação de áreas de preservação permanente e  estabelecimento e manejo da reserva leg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Utilização de fundos para desenvolvimento  da  agrosilvicultura, com financiamentos a toda a cadeia  produtiva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44144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79280" y="193680"/>
            <a:ext cx="8569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olíticas Públic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 programa de políticas públicas para  fitossanidade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mitir a recuperação de áreas de reserva legal com espécies exóticas (pioneiras, no primeiro ciclo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a política pública municipal e ou estadual com o objetivo de fomentar parcerias com os grandes empreendimentos de silvicultura tendo como unidade de planejamento a superfície territorial municip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144144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9640" y="404640"/>
            <a:ext cx="7991640" cy="64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olíticas Públicas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entivo aos programas florestais municip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ulo a criação de cooperativas florest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 sistema descentralizado regional para o licenciamento ambiental e florestal balcão ambi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rementar programa de silvicultura de múltiplo uso, que contemple os aspectos ambientais, sociais e econôm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683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9280" y="981000"/>
            <a:ext cx="8785440" cy="52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 Black"/>
              </a:rPr>
              <a:t>Políticas Públ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a política pública que contemple a compensação florestal e ambi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mitir a recuperação de áreas de reserva legal com espécies exóticas (pioneiras, no primeiro ciclo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urso público para aumento da capacidade de técnicos florest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163692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24000" y="1985400"/>
            <a:ext cx="856908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PROGRAMA DE QUALIFICAÇÃ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CADEIA MADEIRA - 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1636560" cy="16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4000" y="611280"/>
            <a:ext cx="8640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tivo G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ar os profissionais e os interessados que estão diretamente envolvidos com a Cadeia Madei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tivos Específ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antar, avaliar e selecionar candida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ar candidatos selecionad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ar e desenvolver projetos / atividades para alcançar os objetivos do Progra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ÚBLICO ALV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os que  estão direta ou indiretamente envolvidos com a Cadeia Madeira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008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24000" y="333360"/>
            <a:ext cx="8640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odolo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ago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valiaç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avaliações ocorrerão em dois momen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- Avaliação do curso / da metodologia e  do facilitador / instruto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-  Ao término do curso um questionário para  avaliação resumida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3656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15:28:53Z</dcterms:created>
  <dc:creator>c00560</dc:creator>
  <dc:description/>
  <dc:language>en-US</dc:language>
  <cp:lastModifiedBy>Joao</cp:lastModifiedBy>
  <dcterms:modified xsi:type="dcterms:W3CDTF">2008-08-19T12:25:49Z</dcterms:modified>
  <cp:revision>9</cp:revision>
  <dc:subject/>
  <dc:title>Slide 1</dc:title>
</cp:coreProperties>
</file>