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4886-3AED-4524-923D-9B0AB7BED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2FF8-9E05-4255-A80A-55B0B31C2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A1E7-A2E4-41F7-B2DD-20AA1AFFA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A964-751E-4109-AB79-B61D4CC79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A40A-4870-4547-8782-193B08AE7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B02F-1818-47D3-8D7B-2C516E205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8940-A68A-4EF9-B056-5825F78A9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33E5-EEB7-4E15-9C74-098DCCFDD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7CC9-E347-49FD-A6DE-ADCEF85DD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0756-4684-4F96-B0F4-F0377997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1195-73CC-4E64-8BF4-7A3578FC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6B5D-4194-41F0-AD70-43097661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D9E09-DD50-4C71-AB88-B72412872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13240" y="2852640"/>
            <a:ext cx="765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0920" y="692280"/>
            <a:ext cx="856908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RTIF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o término de cada curso, os participantes receberão seu Certificado após uma  avaliação de aproveitamento e de participação mínima em 85% das aulas teóricas /  prátic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ABORAÇÃO DOS INDICADORES DO PROGRA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76360" cy="13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0920" y="430200"/>
            <a:ext cx="660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211680" y="-2442960"/>
            <a:ext cx="9567000" cy="27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8520" rIns="701280" tIns="1482120" bIns="90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12 - INVESTIMENTOS / CURSO / INDICADORES / DIVULGAÇÃO DE RESULTADOS: PROPOSTAS DE PROJE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50920" y="907920"/>
          <a:ext cx="8713800" cy="6021360"/>
        </p:xfrm>
        <a:graphic>
          <a:graphicData uri="http://schemas.openxmlformats.org/drawingml/2006/table">
            <a:tbl>
              <a:tblPr/>
              <a:tblGrid>
                <a:gridCol w="1008000"/>
                <a:gridCol w="2820960"/>
                <a:gridCol w="2871720"/>
                <a:gridCol w="2013120"/>
              </a:tblGrid>
              <a:tr h="398880">
                <a:tc rowSpan="10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CURS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Me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tap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OR R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DENTIFICAÇÃO PERFIL CANDIDATO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A - 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laboração da ficha de cadastrament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0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íodo inscrição mobilização / mobilização so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8.12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abulação dos d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.9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LEÇÃO META - B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laboração dos pré-requisi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5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leções participantes e execução das inscriçõ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3.92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ALIZAÇÃO DE CURS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A -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00360"/>
                          <a:tab algn="r" pos="54007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reinamento dos facilitad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.79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usto por cursos de 40 horas c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.38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usto por  curso de 60 horas c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.4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valiação por curs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8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-466560" y="884304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79640" y="260280"/>
            <a:ext cx="47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PROPOSTAS DE PROJE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216000" y="189000"/>
          <a:ext cx="8713800" cy="6997680"/>
        </p:xfrm>
        <a:graphic>
          <a:graphicData uri="http://schemas.openxmlformats.org/drawingml/2006/table">
            <a:tbl>
              <a:tblPr/>
              <a:tblGrid>
                <a:gridCol w="1908000"/>
                <a:gridCol w="2376720"/>
                <a:gridCol w="2585880"/>
                <a:gridCol w="1843200"/>
              </a:tblGrid>
              <a:tr h="14655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ELABORAÇÃO DOS INDICADO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ULAÇÃO DOS QUESTIONÁRIOS AVALIATIVOS POR CU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–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serção e tabulação dos dados por curs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8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ESTIONARIOS E ENTREVIS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S SETORES CADE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-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aboração dos  questionários e entrevistas nos setores da cade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03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licação do questionário / entrevistas = 3.6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.612,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ulação dos d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.1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ALISE DOS RESULT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álise Elaboração do diagnóst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.15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DIVULGAÇÃO DOS RESULTA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vulgaçã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D e Relatório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9280" y="549360"/>
            <a:ext cx="856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ROJET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- LEVANTAMENTO DE INFORMAÇÕES PARA QUALIFICAÇÃO DE  MÃO DE O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- CAPACITAÇÕES E ASSISTENCIA TÉCNICA PARA 4.000 PROPRIEDADES RUR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- PRODUÇÃO, ADMINISTRAÇÃO E LEGISL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9236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81560" y="332640"/>
            <a:ext cx="42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TOTAL DE RECURSOS DOS PROJETOS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39640" y="836640"/>
          <a:ext cx="8069400" cy="4562280"/>
        </p:xfrm>
        <a:graphic>
          <a:graphicData uri="http://schemas.openxmlformats.org/drawingml/2006/table">
            <a:tbl>
              <a:tblPr/>
              <a:tblGrid>
                <a:gridCol w="2808360"/>
                <a:gridCol w="3529080"/>
                <a:gridCol w="17319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OJE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BJETIV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– LEVANTAMENTO DE INFORMAÇÕES PARA QUALIFICAÇÃO DE MAO-DE-OB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evantar informações nos diversos segmentos que compõem a Cadeia Madeira para detectar  que profissionais são necessário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1.82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250920" y="1125360"/>
          <a:ext cx="8858160" cy="4357800"/>
        </p:xfrm>
        <a:graphic>
          <a:graphicData uri="http://schemas.openxmlformats.org/drawingml/2006/table">
            <a:tbl>
              <a:tblPr/>
              <a:tblGrid>
                <a:gridCol w="2539800"/>
                <a:gridCol w="4299120"/>
                <a:gridCol w="2019240"/>
              </a:tblGrid>
              <a:tr h="466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ÇÃO E ASSISTENCIA TÉCNICA PARA 4.000 PROPRIEDADES RURAI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r técnicos para serem multiplicadores na área de silvicultura, florestas, sistemas agrosilvipastoris e adequação sócio-ambiental e econômica das propriedades rurai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ção de agricultores na produção de florestas, sistemas silvipastoris e adequação sócio-ambiental e econômica da propried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ssistência técnica intensiva e especializada para produtores (as) de florestas e sistemas silvipastor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663.34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981000" y="260280"/>
            <a:ext cx="69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DE RECURSOS DOS PROJ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538200" y="1341360"/>
          <a:ext cx="8605800" cy="3440160"/>
        </p:xfrm>
        <a:graphic>
          <a:graphicData uri="http://schemas.openxmlformats.org/drawingml/2006/table">
            <a:tbl>
              <a:tblPr/>
              <a:tblGrid>
                <a:gridCol w="2233440"/>
                <a:gridCol w="3961080"/>
                <a:gridCol w="2411280"/>
              </a:tblGrid>
              <a:tr h="261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-  PRODUÇÃO, ADMINISTRAÇÃO E LEGISLAÇÃO FLOREST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Qualificar a população de diversos segmentos produtivos que atuam na cadeia produtiva de base florest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0.00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TAL GE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.005.16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1196640" y="692280"/>
            <a:ext cx="69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DE RECURSOS DOS PROJ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333360"/>
            <a:ext cx="849636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1" lang="en-US" sz="2400" spc="-1" strike="noStrike">
                <a:solidFill>
                  <a:srgbClr val="99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entralização da gestão ambiental para a silvicul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a de assistência técnica e capacitação 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res em cada segmento da cadeia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entivo para sistemas agrosilvipasto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equação das políticas públicas para o setor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44144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9280" y="1052640"/>
            <a:ext cx="878544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olítica e / ou programa estadual de incentivo a  recuperação de áreas de preservação permanente e  estabelecimento e manejo da reserva leg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Utilização de fundos para desenvolvimento  da  agrosilvicultura, com financiamentos a toda a cadeia  produtiva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44144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9280" y="193680"/>
            <a:ext cx="856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 programa de políticas públicas para  fitossanidade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mitir a recuperação de áreas de reserva legal com espécies exóticas (pioneiras, no primeiro ciclo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a política pública municipal e ou estadual com o objetivo de fomentar parcerias com os grandes empreendimentos de silvicultura tendo como unidade de planejamento a superfície territorial municip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9640" y="404640"/>
            <a:ext cx="7991640" cy="64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entivo aos programas florestais municip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ulo a criação de cooperativas florest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 sistema descentralizado regional para o licenciamento ambiental e florestal balcão ambi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rementar programa de silvicultura de múltiplo uso, que contemple os aspectos ambientais, sociais e econôm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9280" y="981000"/>
            <a:ext cx="8785440" cy="52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 Black"/>
              </a:rPr>
              <a:t>Políticas Púb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a política pública que contemple a compensação florestal e ambi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mitir a recuperação de áreas de reserva legal com espécies exóticas (pioneiras, no primeiro ciclo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urso público para aumento da capacidade de técnicos florest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163692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24000" y="1985400"/>
            <a:ext cx="85690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PROGRAMA DE QUALIFICAÇÃ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CADEIA MADEIRA - 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636560" cy="16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611280"/>
            <a:ext cx="8640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tivo G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ar os profissionais e os interessados que estão diretamente envolvidos com a Cadeia Madei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tivos Especí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antar, avaliar e selecionar candida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ar candidatos seleciona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ar e desenvolver projetos / atividades para alcançar os objetivos do Progra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ÚBLICO ALV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os que  estão direta ou indiretamente envolvidos com a Cadeia Madeir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008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4000" y="333360"/>
            <a:ext cx="8640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odol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ag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ali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valiações ocorrerão em dois momen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- Avaliação do curso / da metodologia e  do facilitador / instrut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-  Ao término do curso um questionário para  avaliação resumida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3656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5:28:53Z</dcterms:created>
  <dc:creator>c00560</dc:creator>
  <dc:description/>
  <dc:language>en-US</dc:language>
  <cp:lastModifiedBy>Joao</cp:lastModifiedBy>
  <dcterms:modified xsi:type="dcterms:W3CDTF">2008-08-19T12:25:49Z</dcterms:modified>
  <cp:revision>9</cp:revision>
  <dc:subject/>
  <dc:title>Slide 1</dc:title>
</cp:coreProperties>
</file>