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996F-F3B2-4138-89F9-6F92B5BD1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F43F-834E-4DFC-BCFE-F3594CA0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4E8D-ACAB-4AD8-B8E4-66FCE38DA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1A1B-4CDC-421F-B8E6-788EA82A2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6FD2-EF1B-4D09-94A4-6A33D5F8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DCA8-A579-4980-ABFA-ED6E16CF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64C8-A7DF-4A3D-9C8D-4A45DBA6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FC45-62A2-43D2-B212-FF50A592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04C3-BD44-45A8-8CC9-63532A4A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9AD5-D971-4E7B-8D64-443C4D86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2B84-4C01-4D9F-BCC0-677A71DD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6E2F-3C54-481E-B2C8-2D081BA7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A2B4-E8F6-454A-BA1B-C11D5BA62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3240" y="2852640"/>
            <a:ext cx="765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692280"/>
            <a:ext cx="856908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RTIF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o término de cada curso, os participantes receberão seu Certificado após uma  avaliação de aproveitamento e de participação mínima em 85% das aulas teóricas /  prátic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ABORAÇÃO DOS INDICADORES DO PROGR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430200"/>
            <a:ext cx="660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211680" y="-2442960"/>
            <a:ext cx="9567000" cy="27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8520" rIns="701280" tIns="1482120" bIns="90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12 - INVESTIMENTOS / CURSO / INDICADORES / DIVULGAÇÃO DE RESULTADOS: PROPOSTAS DE PROJE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0920" y="907920"/>
          <a:ext cx="8713800" cy="6021360"/>
        </p:xfrm>
        <a:graphic>
          <a:graphicData uri="http://schemas.openxmlformats.org/drawingml/2006/table">
            <a:tbl>
              <a:tblPr/>
              <a:tblGrid>
                <a:gridCol w="1008000"/>
                <a:gridCol w="2820960"/>
                <a:gridCol w="2871720"/>
                <a:gridCol w="2013120"/>
              </a:tblGrid>
              <a:tr h="398880">
                <a:tc row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CUR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e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tap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 R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DENTIFICAÇÃO PERFIL CANDIDAT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a ficha de cadastramen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0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íodo inscrição mobilização / mobilização 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8.1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bulação dos d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.9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ÃO META - 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os pré-requisi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5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ões participantes e execução das inscriç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3.9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ALIZAÇÃO DE CURS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reinamento dos facilita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79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cursos de 4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3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 curso de 6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.4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valiação por curs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-466560" y="884304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9640" y="260280"/>
            <a:ext cx="47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ROPOSTAS DE PRO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16000" y="189000"/>
          <a:ext cx="8713800" cy="6997680"/>
        </p:xfrm>
        <a:graphic>
          <a:graphicData uri="http://schemas.openxmlformats.org/drawingml/2006/table">
            <a:tbl>
              <a:tblPr/>
              <a:tblGrid>
                <a:gridCol w="1908000"/>
                <a:gridCol w="2376720"/>
                <a:gridCol w="2585880"/>
                <a:gridCol w="1843200"/>
              </a:tblGrid>
              <a:tr h="14655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ELABORAÇÃO DOS INDICAD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QUESTIONÁRIOS AVALIATIVOS POR CU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–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erção e tabulação dos dados por curs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8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ESTIONARIOS E ENTREVIS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S SETORES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-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aboração dos  questionários e entrevistas nos setores da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3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licação do questionário / entrevistas = 3.6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612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d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.1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ISE DOS RESULT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e Elaboração do diagnós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15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DIVULGAÇÃO DOS RESULT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vulgaçã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D e Relatóri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54936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ROJE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LEVANTAMENTO DE INFORMAÇÕES PARA QUALIFICAÇÃO DE  MÃO DE O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CAPACITAÇÕES E ASSISTENCIA TÉCNICA PARA 4.000 PROPRIEDADES RUR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- PRODUÇÃO, ADMINISTRAÇÃO E LEGISL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81560" y="332640"/>
            <a:ext cx="42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OTAL DE RECURSOS DOS PROJETOS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9640" y="836640"/>
          <a:ext cx="8069400" cy="4562280"/>
        </p:xfrm>
        <a:graphic>
          <a:graphicData uri="http://schemas.openxmlformats.org/drawingml/2006/table">
            <a:tbl>
              <a:tblPr/>
              <a:tblGrid>
                <a:gridCol w="2808360"/>
                <a:gridCol w="3529080"/>
                <a:gridCol w="17319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JE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– LEVANTAMENTO DE INFORMAÇÕES PARA QUALIFICAÇÃO DE MAO-DE-OB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vantar informações nos diversos segmentos que compõem a Cadeia Madeira para detectar  que profissionais são necessári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.82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50920" y="1125360"/>
          <a:ext cx="8858160" cy="4357800"/>
        </p:xfrm>
        <a:graphic>
          <a:graphicData uri="http://schemas.openxmlformats.org/drawingml/2006/table">
            <a:tbl>
              <a:tblPr/>
              <a:tblGrid>
                <a:gridCol w="2539800"/>
                <a:gridCol w="4299120"/>
                <a:gridCol w="2019240"/>
              </a:tblGrid>
              <a:tr h="46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E ASSISTENCIA TÉCNICA PARA 4.000 PROPRIEDADES RURA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r técnicos para serem multiplicadores na área de silvicultura, florestas, sistemas agrosilvipastoris e adequação sócio-ambiental e econômica das propriedades rura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de agricultores na produção de florestas, sistemas silvipastoris e adequação sócio-ambiental e econômica da proprie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ssistência técnica intensiva e especializada para produtores (as) de florestas e sistemas silvipastor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663.34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981000" y="260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38200" y="1341360"/>
          <a:ext cx="8605800" cy="3440160"/>
        </p:xfrm>
        <a:graphic>
          <a:graphicData uri="http://schemas.openxmlformats.org/drawingml/2006/table">
            <a:tbl>
              <a:tblPr/>
              <a:tblGrid>
                <a:gridCol w="2233440"/>
                <a:gridCol w="3961080"/>
                <a:gridCol w="2411280"/>
              </a:tblGrid>
              <a:tr h="261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-  PRODUÇÃO, ADMINISTRAÇÃO E LEGISLAÇÃO FLOREST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alificar a população de diversos segmentos produtivos que atuam na cadeia produtiva de base florest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0.00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L G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005.16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1196640" y="692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333360"/>
            <a:ext cx="849636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entralização da gestão ambiental para a silvicul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a de assistência técnica e capacitação 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res em cada segmento da cadei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para sistemas agrosilvipasto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equação das políticas públicas para o setor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1052640"/>
            <a:ext cx="87854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olítica e / ou programa estadual de incentivo a  recuperação de áreas de preservação permanente e  estabelecimento e manejo da reserva le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Utilização de fundos para desenvolvimento  da  agrosilvicultura, com financiamentos a toda a cadeia  produtiv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19368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programa de políticas públicas para  fitossanidade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municipal e ou estadual com o objetivo de fomentar parcerias com os grandes empreendimentos de silvicultura tendo como unidade de planejamento a superfície territorial muni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404640"/>
            <a:ext cx="799164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aos programas florestais municip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ulo a criação de cooperativa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sistema descentralizado regional para o licenciamento ambiental e florestal balcão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mentar programa de silvicultura de múltiplo uso, que contemple os aspectos ambientais, sociais e econô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981000"/>
            <a:ext cx="878544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 Black"/>
              </a:rPr>
              <a:t>Polític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que contemple a compensação florestal e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urso público para aumento da capacidade de técnico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1985400"/>
            <a:ext cx="8569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PROGRAMA DE QUALIFICAÇ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ADEIA MADEIRA - 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636560" cy="16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611280"/>
            <a:ext cx="8640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 G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os profissionais e os interessados que estão diretamente envolvidos com a Cadeia Madei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s Especí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antar, avaliar e selecionar candi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candidatos seleciona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ar e desenvolver projetos / atividades para alcançar os objetivos do Progr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ÚBLICO ALV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os que  estão direta ou indiretamente envolvidos com a Cadeia Madeir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008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333360"/>
            <a:ext cx="8640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ag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ali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valiações ocorrerão em dois momen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Avaliação do curso / da metodologia e  do facilitador / instru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 Ao término do curso um questionário para  avaliação resumid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3656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5:28:53Z</dcterms:created>
  <dc:creator>c00560</dc:creator>
  <dc:description/>
  <dc:language>en-US</dc:language>
  <cp:lastModifiedBy>Joao</cp:lastModifiedBy>
  <dcterms:modified xsi:type="dcterms:W3CDTF">2008-08-19T12:25:49Z</dcterms:modified>
  <cp:revision>9</cp:revision>
  <dc:subject/>
  <dc:title>Slide 1</dc:title>
</cp:coreProperties>
</file>