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BC5FC-EB17-4AF2-87EB-C41B07636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B56F8-C2D8-44C8-9240-576E0123B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4FC5-378A-4927-8DCD-15FE0AC7BF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00C1-A4F6-42A0-8ACB-805E6AC1D7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7236-82EA-4462-AB25-7D5E5D404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6AB6-0B07-4C44-9DA1-81C7C7382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CD2A5-1A52-47EF-A712-4FA6910D4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ED69A-180B-4F0B-9894-E88276785A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8A83B-5E68-4E3F-A744-B0DC36282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F046-A7ED-4A83-BCFC-EE445E3C7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94DB2-C654-46E3-A09D-B1F99F3EA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6F5E-62A6-47A6-9945-6123E61BF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E8E8-BA10-4894-9273-FC2CF9BBAB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13240" y="2852640"/>
            <a:ext cx="765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0" lang="en-US" sz="7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244800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250920" y="692280"/>
            <a:ext cx="8569080" cy="55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ERTIFIC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o término de cada curso, os participantes receberão seu Certificado após uma  avaliação de aproveitamento e de participação mínima em 85% das aulas teóricas /  prática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ABORAÇÃO DOS INDICADORES DO PROGRAM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476360" cy="133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50920" y="430200"/>
            <a:ext cx="6607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-211680" y="-2442960"/>
            <a:ext cx="9567000" cy="27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28520" rIns="701280" tIns="1482120" bIns="90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12 - INVESTIMENTOS / CURSO / INDICADORES / DIVULGAÇÃO DE RESULTADOS: PROPOSTAS DE PROJE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50920" y="907920"/>
          <a:ext cx="8713800" cy="6021360"/>
        </p:xfrm>
        <a:graphic>
          <a:graphicData uri="http://schemas.openxmlformats.org/drawingml/2006/table">
            <a:tbl>
              <a:tblPr/>
              <a:tblGrid>
                <a:gridCol w="1008000"/>
                <a:gridCol w="2820960"/>
                <a:gridCol w="2871720"/>
                <a:gridCol w="2013120"/>
              </a:tblGrid>
              <a:tr h="398880">
                <a:tc rowSpan="10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CURS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 Black"/>
                        </a:rPr>
                        <a:t>Me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tap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 R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DENTIFICAÇÃO PERFIL CANDIDATOS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a ficha de cadastrament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5.0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6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íodo inscrição mobilização / mobilização soc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8.1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bulação dos dad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7.9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ÃO META - B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Elaboração dos pré-requisi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592,5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leções participantes e execução das inscriçõ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3.92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REALIZAÇÃO DE CURS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 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ETA - 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 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r" pos="449280"/>
                          <a:tab algn="ctr" pos="2700360"/>
                          <a:tab algn="r" pos="540072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reinamento dos facilit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9.79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cursos de 4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8.3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usto por  curso de 60 horas ca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2.40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66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valiação por cur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85,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"/>
          <p:cNvSpPr/>
          <p:nvPr/>
        </p:nvSpPr>
        <p:spPr>
          <a:xfrm>
            <a:off x="-466560" y="884304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95280" y="0"/>
            <a:ext cx="8497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79640" y="260280"/>
            <a:ext cx="475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Black"/>
              </a:rPr>
              <a:t>PROPOSTAS DE PROJE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16000" y="189000"/>
          <a:ext cx="8713800" cy="6997680"/>
        </p:xfrm>
        <a:graphic>
          <a:graphicData uri="http://schemas.openxmlformats.org/drawingml/2006/table">
            <a:tbl>
              <a:tblPr/>
              <a:tblGrid>
                <a:gridCol w="1908000"/>
                <a:gridCol w="2376720"/>
                <a:gridCol w="2585880"/>
                <a:gridCol w="1843200"/>
              </a:tblGrid>
              <a:tr h="146556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ELABORAÇÃO DOS INDICADOR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QUESTIONÁRIOS AVALIATIVOS POR CU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– 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Inserção e tabulação dos dados por curs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.28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36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QUESTIONARIOS E ENTREVIST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OS SETORES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- B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Elaboração dos  questionários e entrevistas nos setores da cadei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3.03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plicação do questionário / entrevistas = 3.6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2.612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Tabulação dos d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29.1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40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ALISE DOS RESULTAD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META C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Análise Elaboração do diagnóstic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7.15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 Black"/>
                          <a:ea typeface="Times New Roman"/>
                        </a:rPr>
                        <a:t>DIVULGAÇÃO DOS RESULTAD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ivulgaçã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D e Relatório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 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10.00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79280" y="54936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ROJET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LEVANTAMENTO DE INFORMAÇÕES PARA QUALIFICAÇÃO DE  MÃO DE OB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CAPACITAÇÕES E ASSISTENCIA TÉCNICA PARA 4.000 PROPRIEDADES RUR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 - PRODUÇÃO, ADMINISTRAÇÃO E LEGISL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9236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581560" y="332640"/>
            <a:ext cx="4269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TOTAL DE RECURSOS DOS PROJETOS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539640" y="836640"/>
          <a:ext cx="8069400" cy="4562280"/>
        </p:xfrm>
        <a:graphic>
          <a:graphicData uri="http://schemas.openxmlformats.org/drawingml/2006/table">
            <a:tbl>
              <a:tblPr/>
              <a:tblGrid>
                <a:gridCol w="2808360"/>
                <a:gridCol w="3529080"/>
                <a:gridCol w="173196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OJE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OBJETIV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VAL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85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 – LEVANTAMENTO DE INFORMAÇÕES PARA QUALIFICAÇÃO DE MAO-DE-OBR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evantar informações nos diversos segmentos que compõem a Cadeia Madeira para detectar  que profissionais são necessários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1.82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87280" cy="105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250920" y="1125360"/>
          <a:ext cx="8858160" cy="4357800"/>
        </p:xfrm>
        <a:graphic>
          <a:graphicData uri="http://schemas.openxmlformats.org/drawingml/2006/table">
            <a:tbl>
              <a:tblPr/>
              <a:tblGrid>
                <a:gridCol w="2539800"/>
                <a:gridCol w="4299120"/>
                <a:gridCol w="2019240"/>
              </a:tblGrid>
              <a:tr h="4667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E ASSISTENCIA TÉCNICA PARA 4.000 PROPRIEDADES RURAI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r técnicos para serem multiplicadores na área de silvicultura, florestas, sistemas agrosilvipastoris e adequação sócio-ambiental e econômica das propriedades rurai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apacitação de agricultores na produção de florestas, sistemas silvipastoris e adequação sócio-ambiental e econômica da propriedad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Assistência técnica intensiva e especializada para produtores (as) de florestas e sistemas silvipastori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6.663.340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6" name=""/>
          <p:cNvSpPr/>
          <p:nvPr/>
        </p:nvSpPr>
        <p:spPr>
          <a:xfrm>
            <a:off x="981000" y="260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" name=""/>
          <p:cNvGraphicFramePr/>
          <p:nvPr/>
        </p:nvGraphicFramePr>
        <p:xfrm>
          <a:off x="538200" y="1341360"/>
          <a:ext cx="8605800" cy="3440160"/>
        </p:xfrm>
        <a:graphic>
          <a:graphicData uri="http://schemas.openxmlformats.org/drawingml/2006/table">
            <a:tbl>
              <a:tblPr/>
              <a:tblGrid>
                <a:gridCol w="2233440"/>
                <a:gridCol w="3961080"/>
                <a:gridCol w="2411280"/>
              </a:tblGrid>
              <a:tr h="2619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 -  PRODUÇÃO, ADMINISTRAÇÃO E LEGISLAÇÃO FLOREST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Qualificar a população de diversos segmentos produtivos que atuam na cadeia produtiva de base florestal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70.00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OTAL GER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7.005.160,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"/>
          <p:cNvSpPr/>
          <p:nvPr/>
        </p:nvSpPr>
        <p:spPr>
          <a:xfrm>
            <a:off x="1196640" y="692280"/>
            <a:ext cx="695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TAL DE RECURSOS DOS PROJE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395280" y="333360"/>
            <a:ext cx="8496360" cy="60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entralização da gestão ambiental para a silvicult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grama de assistência técnica e capacitação 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tores em cada segmento da cadei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para sistemas agrosilvipastor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equação das políticas públicas para o setor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79280" y="1052640"/>
            <a:ext cx="8785440" cy="54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Política e / ou programa estadual de incentivo a  recuperação de áreas de preservação permanente e  estabelecimento e manejo da reserva leg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Utilização de fundos para desenvolvimento  da  agrosilvicultura, com financiamentos a toda a cadeia  produtiva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50920" y="189000"/>
            <a:ext cx="1441440" cy="107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79280" y="193680"/>
            <a:ext cx="856944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programa de políticas públicas para  fitossanidade flores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municipal e ou estadual com o objetivo de fomentar parcerias com os grandes empreendimentos de silvicultura tendo como unidade de planejamento a superfície territorial municip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1441440" cy="118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39640" y="404640"/>
            <a:ext cx="7991640" cy="64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Políticas Públicas</a:t>
            </a:r>
            <a:r>
              <a:rPr b="1" lang="en-US" sz="2400" spc="-1" strike="noStrike">
                <a:solidFill>
                  <a:srgbClr val="99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entivo aos programas florestais municip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imulo a criação de cooperativa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 sistema descentralizado regional para o licenciamento ambiental e florestal balcão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crementar programa de silvicultura de múltiplo uso, que contemple os aspectos ambientais, sociais e econô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368360" cy="136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79280" y="981000"/>
            <a:ext cx="8785440" cy="526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cc00"/>
                </a:solidFill>
                <a:latin typeface="Arial Black"/>
              </a:rPr>
              <a:t>Políticas Públic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iar uma política pública que contemple a compensação florestal e ambie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mitir a recuperação de áreas de reserva legal com espécies exóticas (pioneiras, no primeiro ciclo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curso público para aumento da capacidade de técnicos floresta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163692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324000" y="1985400"/>
            <a:ext cx="856908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PROGRAMA DE QUALIFICAÇÃO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DEIA MADEIRA - 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250920" y="260280"/>
            <a:ext cx="1636560" cy="163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24000" y="611280"/>
            <a:ext cx="864072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 Ger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os profissionais e os interessados que estão diretamente envolvidos com a Cadeia Madeir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bjetivos Específ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vantar, avaliar e selecionar candida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pacitar candidatos selecionad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ar e desenvolver projetos / atividades para alcançar os objetivos do Program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ÚBLICO ALV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dos que  estão direta ou indiretamente envolvidos com a Cadeia Madeira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179280" y="115920"/>
            <a:ext cx="1008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324000" y="333360"/>
            <a:ext cx="8640720" cy="649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todol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agog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vali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 avaliações ocorrerão em dois momento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 - Avaliação do curso / da metodologia e  do facilitador / instruto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 -  Ao término do curso um questionário para  avaliação resumida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36560" cy="16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14T15:28:53Z</dcterms:created>
  <dc:creator>c00560</dc:creator>
  <dc:description/>
  <dc:language>en-US</dc:language>
  <cp:lastModifiedBy>Joao</cp:lastModifiedBy>
  <dcterms:modified xsi:type="dcterms:W3CDTF">2008-08-19T12:25:49Z</dcterms:modified>
  <cp:revision>9</cp:revision>
  <dc:subject/>
  <dc:title>Slide 1</dc:title>
</cp:coreProperties>
</file>